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6.jpeg" ContentType="image/jpeg"/>
  <Override PartName="/ppt/media/image4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dt" idx="7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 type="ftr" idx="8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6"/>
          <p:cNvSpPr>
            <a:spLocks noGrp="1"/>
          </p:cNvSpPr>
          <p:nvPr>
            <p:ph type="sldNum" idx="8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733D-0531-487A-A876-929A17111B5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TBI summer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E088-5046-49C4-8A2F-31B2595D428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Genev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TBI summer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A192-871E-48C3-A14B-3E5DF3B8FC7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Genev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45FF-C7BE-4911-97FB-84988DCEE56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822A-28EA-4E7D-A22C-314B7AF15AC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B222-E679-41F4-81AE-C025FEF1887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8099-7137-4383-AA3B-59090707F7F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9649-CCEF-483D-AB45-A156DF4D441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9408-4A94-4802-8453-789020BF5F7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4773E-BD7C-458E-844F-4F7D4A4F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EDBB3-ED16-46EE-852D-A5057264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AFE2C-4F70-45AA-BE77-7727B5FC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6B5A4-1165-49C8-9D15-DB7AF2D4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8DCF8-579A-44D4-8295-5F299B68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B4D22-4949-49BD-886A-5A88A88D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5066E-4E30-4D91-B5A1-8F91CCB6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EEA71-0C62-4B4D-A35A-579180D73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33EEA-9FD8-42D0-8796-1D27B5CF4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3CF84-752B-4F25-B6BC-3D049518F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6F6CD-2DD0-4F8F-B403-3E136E20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0210F-98AD-49A5-82AA-FAC571CF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C7961-349F-49F4-9B42-CC67F2B4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D59F9-1A3E-4029-830E-77ACF29F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D5B5C-9BD1-4E33-BAF4-347B4ECD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5B704-02A6-4518-B92E-A9BFF4C1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85533-6578-48B6-A3D4-D33B6D43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D4D48-F32D-4834-AF10-16888094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59380-3D49-4A7F-9604-801F03EC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594D0-59CE-4734-B6C6-2A8D3B3F0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5217F-7C9A-4E2E-A1AF-24A6486C4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3B201-BC7A-4543-9B01-E43E44C1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1B5D0-DE9D-43CE-8B48-C973291C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D1C1F-8E1C-431F-AEEA-73990605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10172-1469-47CA-9C79-B2484F6C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C53E7-4E01-43F5-91DD-AF198E1A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DAE0A-4663-427E-969B-9616D7D2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795E4-F0C1-4FCC-91DB-21C83F10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EFE73-6FE4-4221-A3B8-B08F155F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38158-B39D-48EA-9741-35B4D673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2A37-2824-449A-B859-2273A8EB8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59082-D8BA-4FC0-9844-899EEB34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933DE-FA36-4241-B4CA-56E38ED79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6D715-3C27-4333-B364-BFB19949A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FA25C-7DAB-40E0-A1A9-601C649C5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904487-CCBD-48AB-A96D-7AE7B4DB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1DB4C3-C01A-4770-B198-4C4611B5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3F290-DDB0-44ED-94CD-86B9640F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62908C-C692-4B77-98E3-9F01EAA8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DC657B-AA30-41ED-B81C-B77D76B3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6CDF83-48A3-40F7-AAD1-3165DCE5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5A86-6003-4E93-B49F-3C9810EF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9BD59-47CF-485A-8F6B-A2047E63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41EA1-24E3-4B6D-B729-63A2340A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58E1AB-4D7C-4A26-B446-D26E376F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B0345C-7582-4D1C-81DD-19EFB095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A8D461-D175-40B5-972F-1BD6FBB42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6B020-17E3-498A-84F1-76F4DDDEF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286C6-3A29-4422-8AB1-22CD0301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1BF60-98B7-482D-BC7B-1472496D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07BCD-EBA4-4DB8-AD08-6FC38589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9564D-F9EC-41A4-A797-9EBA7226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5457-464F-4820-A73E-22F9041A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AE059-E79E-4A47-950A-815FF10C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9EE3E-78D1-446D-B6BD-DD1E8E92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1CB1B-46E9-4EBF-9BC6-BE3A50E8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46C7B-44C0-474F-B029-EB4BC5A7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FFFEA-77C1-4040-BDB2-CA46F5EE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85F56-E5E7-489D-B0A2-5A9C8423C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C0D0D-7E15-4652-9275-6386FAE30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2296EA-8F56-4A10-A9CD-FF001B8A8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EDEC8E-34EF-4F44-BB97-36E2A651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C361F1-5861-4972-94BF-1BAC050E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CC25-2449-4CDE-9FCE-2C34CB0F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34BB33-6B48-4D03-BE44-1EAA943B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455047-F557-439E-80D9-06EADE28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01FCB4-838C-4033-81B7-90080FE6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385C9F-DA4D-46AC-AA7E-614C758B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853F76-4C15-4A9A-BAB6-97978793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A46F74-75DB-4393-AE00-B93E2436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35B704-18FC-4EE6-A283-695CA145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A1AA94-9533-4A45-91C3-7B8FC72FF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01FD3A-EE06-4FAA-9362-E3272C4C9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767C20-3A49-480F-9368-963AFA1CC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760B-A840-4D67-AEE7-C89B1B97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92B6EE-4F31-4EDF-B9E4-51B42346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795D45-3D7F-4FFF-8224-A6AE8409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14D398-84EA-40D9-A42F-F80BBA8D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BD9BDE-F799-4B0F-8C30-D95C269A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C77720-28F3-47F7-B1D2-0659A245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A8C1AC-BC1F-4113-BB92-BCA621C3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2B1E6B-A463-4F9D-BE68-27C948FD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F9B166-B393-419C-B3A7-797CAAE6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D05DE2-2CF0-4038-B901-6FA4A097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964A7B-751E-4DB7-9935-DFEBDBB8B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591A-A47F-43C8-B3A7-5E04A2C4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891E01-1D13-4892-A052-6F8B848B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A4C99C-39B7-4D06-BF75-5BC25F679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A79948-1C54-4869-83CA-EB9ECC0D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41ADEA-BE5C-4BF9-905F-C6E72EA8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D8085E-77B5-4D34-8B46-F0CF3491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A8A0DC-BC69-4D53-9CEA-145C0B19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16CB0E-3A70-49A6-B213-285595FA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7FD2D9-62A3-4443-9DEC-E1682FFB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624FB7-BF56-49CD-9074-70AA182D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42DC1E-1A78-4422-8E6B-67BCA2D8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893F-187D-4039-BF32-12B103D2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54D274-38DF-4332-A768-A8CA5178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08A2D7-3D38-4D9A-A858-80ED071C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87B2C3-2EAA-4DA6-AE09-6D35C2269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311447-9F3C-454C-9892-B75AAFDF2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D76ED8-F4EE-4F0C-92A4-A87ACD0A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F3AD08-510E-47CF-8F4E-5C9EFC4F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B3A63D-023D-46C4-B782-68ED6A27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2C1279-42D0-4417-9853-AA376794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C6B0C5-5078-436D-922E-1CB7EE6E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F4CE22-CC53-4BC3-936C-370D24F3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C72B-FA1F-4ABC-8AF0-06BBB589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7808CF-E542-44C7-9FC1-103F3785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0A924C-1958-4E9D-B043-0A249469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68F5E0-9D15-4534-BAA6-5C02CD11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0BFD07-5E40-4F78-859D-320B696A3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56E841-2A69-4813-BEAB-567AA068B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2EDA45-F88E-40C1-BC9A-A6715DD88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85C125-92FF-4845-9CB2-A68C4861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405196-9D99-4F45-BDC0-2B8CEEE4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38195B-3BA4-4583-B025-191803B7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34EE0E-F7C0-483E-BF4E-64CE40A5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2D76-9542-44CB-931A-15056486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23329B-7046-47E8-B7FE-9BD58DAD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265BCC-9553-4519-B726-58F14D78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F1CBB1-A9EE-4014-9A1C-21044948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3000E5-C4EC-437D-9F70-9CE70E63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CBC93A-58FE-4C48-BC71-FBC775FD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BDBFB3-FFF3-4D55-84A2-300C9F09E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1CA464-79F0-4261-A57D-85C845268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E95355-2D45-472B-A368-B371AA0C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426E7F-9A99-4EB9-A660-BBA5054B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144F39-BD0A-438E-B833-9CCD7CD7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F21C-3511-4324-99CD-FB702C96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0B3BB0-CD24-43D4-B450-248B1926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C50C64-3970-46CC-9A33-6342C810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E4C044-DC60-4828-9926-81FB0165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A7BA68-C758-4C82-BB59-C76EBE41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FF247E-60DF-4FEF-B283-19F890CE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F851E1-CC00-4810-AD7F-759B7CB0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695A75-E891-4DEC-AE92-21B3B2FD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3FDE4C-4519-4104-B480-272E8F79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7994F6-B95B-4540-B3D6-40C7614B0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61EE79-2FEC-4B8C-9114-838C1AAF1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D3CC-A5A4-421F-A237-4C9AAD2BE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D7AF0D-20EB-4321-8D40-7B74A26F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901910-D4A0-4991-9DA8-9C8424A4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3CD621-594B-42AB-8BAD-C991F886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013BB7-A7E5-40F4-BF95-6BADC114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CC539D-EE1E-4A3E-A854-03A19C1C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3AF36A-CAE8-4614-BECD-2401EF11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10F49B-30C7-4E56-847D-DEA91C6F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4838D1-43DD-48B0-9961-B69F1DAA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0D7C40-3850-4974-A508-176873B8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A0FB33-CBB2-4B52-9AA0-78BD3ED30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9CD1-998A-4F79-8AF6-D78DD75C8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24E575-6AC6-46F9-B108-DF0AB0A34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BB5CA7-032B-4CFD-A517-3338753BE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EA2C11-46E7-4263-AD9E-EB98A2AE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303F31-2953-4E06-9123-21FD3A11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8BCEDB-00F1-4182-AE2B-789FC219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82E770-7C88-4D06-8C5A-59D6516A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71920C-7CA0-4EA5-8071-E5DCEFAF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18865B-5FC8-4B2B-B488-F3ED7874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5F4326-885D-4C4B-A195-56FBE679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F62B88-A26C-46B0-B4BF-FAF4A198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E304-AAC1-4256-8B9D-C1F2779D0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6E2A3F-7B7C-4E1B-B5F6-790514F1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38553E-A39F-435D-A5A1-F442FB670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1D5FBF-0799-4F5A-9EC6-79B3FCF0C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445858-4BDB-45E2-A218-ECD64A42C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3F3A5A-6A37-42AA-928D-8954C62A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6E403D-696E-4ACD-B47B-E8BB7DEE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F91463-AEBB-40D9-9FD2-0749C173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71FE86-784B-4C3C-9025-AE4B16F9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F16287-FF83-47D8-A93A-C2A0B083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EB36FF-35F0-444F-9CE0-203264E3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4ECB-369E-4DFC-A2F0-B4AFEB9B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65D416-B07D-4EDC-9937-88844FCE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3BAC19-B9FC-4E62-B8EB-15F1F087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642BB9-5A1B-4293-954D-7D3BB0AA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EA4A2C-E1B7-449B-91DE-2C6F12D6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4F4136-1595-4E0C-9F31-5729B2DD5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47CB58-73BA-41EB-B973-C36F4C994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E7DF20-C4F2-4AE5-ABA3-BEA6EDE7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7A7C07-794F-4B9E-8E89-2B81810F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817E37-963A-4BEA-A4BC-6FB66FD2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37F3DC-0590-4F24-9B9E-6BC27AC0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8D9B-5B8A-4C27-8082-48DDA739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60A9F0-455B-40BC-89E9-52299DA6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5CB678-565C-437C-8355-9CFE00D8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B24988-76F6-409C-99C6-E84560E6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0BDD50-2234-4CDD-9D66-5F0E47AE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E39DA2-E466-459C-B147-E7295DE5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F2FE5C-98A5-43D8-88FA-1B45E8D4E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657C0E-F963-4A8C-A697-65E6D91FE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2012C2-3212-46F5-B81A-60A8C9A69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5EE0B4-0CDF-4E88-8771-8A07EA55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28910F-E281-4B5D-AB24-1AD7176A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4257-F4BB-4C88-BBCC-3407957E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9B5AAE-EDBB-4F96-89A2-5158F282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E1D469-267C-4456-8EEE-4B17EED0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620519-41D2-42D2-A8F6-FD6FDDC5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8F0592-4B20-43CD-BA80-209EB7AB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97858B-4D49-451D-8B52-66857AAF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43C5E9-2460-4927-9DC2-92EDF5C0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78DF2F-3BA0-4F92-979E-EA66CCC5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3CC819-B32B-4DB2-A937-5177829A5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35B7BB-ACAC-4962-A8CB-502370986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ACE19A-0B16-4850-855E-48B1F46E9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34B2-3A1C-4383-8C7C-921BDBE0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9191E7-9336-48D7-B5A0-11773620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FF3C5D-A41A-458F-90E0-3BD496F7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131A08-B733-4C5E-AC9A-A98EF9FA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60F316-313D-4ED3-A1E5-2DCED0B6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CE5A2F-5039-442E-84FD-8E3D8B56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A604AC-42A1-4396-9B15-7FB73C5A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0F1852-15CB-4F7D-AA50-FE4B2DBC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145D75-C7F2-4EE1-9F66-489E829C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C08796-0E81-4707-8C77-83DD692C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975F3C-758D-497B-A1F1-E873D8D7C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5C33-DFC3-4662-9112-9C08BA4F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EFE069-6821-4E8E-B75B-AAF7B4561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9F86C11-91B9-46A3-8C73-0A4BC606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034BC9-F968-43F9-A17E-B2E43AD9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4E1B6F-CDAF-41C7-BAE4-34D18B5A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D29F7A-3CD7-487C-B922-42E20495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C85298-A8F7-4DA3-9072-393BE629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2B39A5-C346-4173-9E7E-858CFAFF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4D2BCA-5028-4B2E-AB5F-D178D763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932901-D69F-45F1-B860-D16F6CE2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9D96F7-D2E4-4751-BCD4-6AB73D0B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E87C-AF52-4261-AD7F-470DA7E6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6698C1-1F4D-4B8B-AA79-047128C7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89B7A4-9875-4866-B9F6-F6FFEDED8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C7F44B-8EDD-4E9F-9123-018578EF9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78D78B-C11F-4260-9D84-0B6388817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9EA44E8-2637-4E46-B92F-0FD29ACF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4E584B0-8665-4945-AB47-1467B38C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1954F19-A46E-4015-AE93-2469F2B5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7502FC-AAA2-4AE4-B12A-98CE6C55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57224FF-4A54-4DAD-88D9-714B154A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086998-6867-47D5-8E51-351F11EF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A3DE-4A85-4F97-975A-01908B22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37069C-DA8C-42BA-A464-C4AF5FEB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2D621E-E55A-4306-9A6C-4944A6C9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27D5A7-BBFA-402C-AF69-004815BE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E1FB18B-8890-4016-9481-4D3F12BC2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1C3A566-29DF-40E3-A6E9-0DBC101E8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D78B3A-531C-4FAE-9554-1BFDB0DE1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EEB70C-C55C-41BE-A84E-5FABEA97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37E135-0E23-428A-894F-2508319C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110152-E22C-4DA1-82FF-8E45D421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1EE7414-0430-4F19-9A02-9DB76152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7B64-C433-497F-AF66-79921D4D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AD64176-B41B-44DB-B37E-32D925CD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1B865A-B294-484F-B836-8994FF47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AD07E8D-136E-4EA7-BF60-8C7F09E8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71397B-D537-4A6F-A11B-47E4CF3D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C4F372-2AEF-4444-8E9F-AA6CD00F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1564DF-8BCE-481C-B778-EC6BE9BAF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6ACEBEF-5F63-48A6-8A39-3B16DDC78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81E2-1A16-4F80-A79E-AB7EA58A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A8D1-AFE4-4AE8-A991-196855DBA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AD46-A17F-4A88-976D-8660CAC67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C3058-8CE4-4539-ACCB-D54715BC3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ECB7B-9C59-442B-BC4D-5D76F6BB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79315-3E1E-4AC9-B15E-B6B9C09E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2BD12-4F68-4D38-B4DF-AD5915B9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6E130-8C83-4B29-939D-9987B1CB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7C7AA-2343-4D26-B096-EC3FD00A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C91B7-E685-4D51-99B6-28F5A7FE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9D890-98FC-48BE-BE40-8DE01C57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64307-D056-452F-A81D-BE44FDF5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BFB5A-E4D2-4BF4-ADC3-BA6CA5C7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6C282-535E-4890-BEA5-BA525707F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44D97-BC6E-4A11-8515-D70410ED6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EB3FF-29F4-442A-BEB0-A594A57F4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6BF87-60F5-4D5F-8150-873F323E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3AE77-B412-40AE-B0CE-E01D30C1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DD02B-F7A6-4C9D-8710-B3663589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5E608-249C-4C24-B61F-D36B714A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00339-01F1-4AE8-BA2F-88DD0498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E0F8F-A4E2-4EAF-AF0A-4A9E5293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FF8DA-304D-45E1-AA7A-9BA6AFA0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82021-4B71-43D6-94A3-31B91437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9B5B2-1A48-419D-9EFA-22C5DD0B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9B6B3-793D-4D81-AF77-18F66D75D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E6DE8-DFFD-4B9B-96FB-B88637978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98684-E0F3-4EC5-B4CC-27D0DD85F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961FA-0466-4FB8-95CF-E7A575F9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7F591-161E-42B0-A13D-3039378E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59B61-3057-4178-ACD7-27396FFA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6011E-5D3C-4446-A5E5-46020D59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F6676-622B-41F9-A73B-E8AFD2DE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A1BB7-5421-46A6-BF9A-4C19BF39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333A6-76A0-4CE9-85C3-61649B9F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05FFD-D9B9-4189-8C68-DCEB1652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87B58-1D2E-4D64-884D-63E07F78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E3034-B664-418B-9386-66C93B9DE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9CD18-21F3-4680-B360-0C1CA7029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ADB75-399B-464E-ADD3-4183832A0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93047-1103-4042-A8B7-5E03FF57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910A8-3011-412E-98A4-CE0144AD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2B680-7D58-45DE-98EF-6717498E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A4FAA-FCD3-4886-933A-383320BD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D03C1-F8F1-4BB6-A6F9-DE9C970B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F9D7F-9FE2-44F6-AF06-F8D90296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11A3B-E35B-4D32-8D05-2C34EF05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2E09C-9840-4535-A466-883D7E2A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E2C39-7D87-42C3-8603-28459A88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7A4D8-BD80-4DE7-8B0A-E54552285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83381-7E1F-4999-9FD1-02BC78327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390B5-339B-45AB-8ADF-65FFA99B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79DD4-4E6C-43F5-B841-55E0E394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38DE0-3A1E-4FD4-A9B2-1DCC02DB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FAA2-B914-49C0-B5EB-20711E10795F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7C7F-3B37-48FD-829B-106C6F04A038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5456-2A4E-4326-B018-FD0279A3BC35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0616-AE91-4AD7-A6D2-208D20262339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7348-1EC2-4753-AFE6-7463993DB41E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3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E28F-CD39-4BA9-B8E9-644335E11549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dt" idx="4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ftr" idx="4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 type="sldNum" idx="4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2ED8-9E36-4C57-993A-75D9CEE8470A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4558-0E6F-4317-8B82-41E834461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AF33-0321-43A5-AA80-66695870C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3C7B-00B9-4D5A-821C-C5A92B3A7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391E-285F-4882-96FC-19BC26BF81AF}" type="slidenum">
              <a:rPr b="0" lang="en-US" sz="1400" spc="-1" strike="noStrike">
                <a:solidFill>
                  <a:srgbClr val="ff9966"/>
                </a:solidFill>
                <a:latin typeface="Times New Roman"/>
                <a:ea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D6A7-E218-4BB3-887C-36A94FE26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C8B7-5DA9-4801-AA8D-4B52B47AC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A441-E7C8-4B4B-9F6E-A2D409386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6812-DF94-4660-834A-76C438ECA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4AB9-52D6-418C-953C-8F94373E3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08A3-694F-48CC-BB59-868AB19C7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09D9-F6FA-4167-B207-EDF8E6F7B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B9BB-84BD-456C-83D3-1403D8B4C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0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1161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1162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1703-5E48-4688-A2ED-98F8B27B0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CAED-189B-4506-A02F-4DCBFD1A2E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7" descr="math_name"/>
          <p:cNvPicPr/>
          <p:nvPr/>
        </p:nvPicPr>
        <p:blipFill>
          <a:blip r:embed="rId2"/>
          <a:stretch/>
        </p:blipFill>
        <p:spPr>
          <a:xfrm>
            <a:off x="4952880" y="228600"/>
            <a:ext cx="3886200" cy="304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college"/>
          <p:cNvPicPr/>
          <p:nvPr/>
        </p:nvPicPr>
        <p:blipFill>
          <a:blip r:embed="rId3"/>
          <a:stretch/>
        </p:blipFill>
        <p:spPr>
          <a:xfrm>
            <a:off x="304920" y="304920"/>
            <a:ext cx="3419280" cy="180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combo"/>
          <p:cNvPicPr/>
          <p:nvPr/>
        </p:nvPicPr>
        <p:blipFill>
          <a:blip r:embed="rId4"/>
          <a:stretch/>
        </p:blipFill>
        <p:spPr>
          <a:xfrm>
            <a:off x="3581280" y="6248520"/>
            <a:ext cx="1781280" cy="29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al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371160"/>
            <a:ext cx="533412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5c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45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571680" y="888840"/>
            <a:ext cx="857232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343080" indent="-339840">
              <a:lnSpc>
                <a:spcPct val="130000"/>
              </a:lnSpc>
              <a:spcBef>
                <a:spcPts val="799"/>
              </a:spcBef>
              <a:buClr>
                <a:srgbClr val="ac46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2" marL="343080" indent="-339840">
              <a:lnSpc>
                <a:spcPct val="130000"/>
              </a:lnSpc>
              <a:spcBef>
                <a:spcPts val="799"/>
              </a:spcBef>
              <a:buClr>
                <a:srgbClr val="ac46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3" marL="343080" indent="-3398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4" marL="343080" indent="-3398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5" marL="343080" indent="-3398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6" marL="343080" indent="-3398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167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171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Picture 20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A02D-C6C0-4109-86E5-AFB81478CBDF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rc 3"/>
          <p:cNvSpPr/>
          <p:nvPr/>
        </p:nvSpPr>
        <p:spPr>
          <a:xfrm>
            <a:off x="0" y="843120"/>
            <a:ext cx="2895480" cy="60181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18120"/>
              <a:gd name="textAreaBottom" fmla="*/ 6018480 h 601812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9812-D7BB-45D3-9400-BD7E5DB17D1E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15BF-D3B8-493E-AFEB-E5F6A05024F5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AF0F-AE85-407D-BC60-513FC52E0CE7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B932-C8E3-474F-AC8C-850C0BD256D1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Predator-Prey Models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ibeiro de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ilberto Câm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iago Garcia de Senna Carnei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ahoma"/>
                <a:ea typeface="DejaVu Sans"/>
              </a:rPr>
              <a:t>Generic Model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278" name="Picture 4" descr=""/>
          <p:cNvPicPr/>
          <p:nvPr/>
        </p:nvPicPr>
        <p:blipFill>
          <a:blip r:embed="rId1"/>
          <a:srcRect l="1633" t="0" r="1633" b="0"/>
          <a:stretch/>
        </p:blipFill>
        <p:spPr>
          <a:xfrm>
            <a:off x="1116000" y="1413000"/>
            <a:ext cx="5904000" cy="2200320"/>
          </a:xfrm>
          <a:prstGeom prst="rect">
            <a:avLst/>
          </a:prstGeom>
          <a:ln w="0">
            <a:noFill/>
          </a:ln>
        </p:spPr>
      </p:pic>
      <p:sp>
        <p:nvSpPr>
          <p:cNvPr id="1279" name="Text Box 3"/>
          <p:cNvSpPr/>
          <p:nvPr/>
        </p:nvSpPr>
        <p:spPr>
          <a:xfrm>
            <a:off x="1109520" y="4149720"/>
            <a:ext cx="6901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Genev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Geneva"/>
              </a:rPr>
              <a:t>f(x) prey growth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Genev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Geneva"/>
              </a:rPr>
              <a:t>g(y) predator mortality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Genev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Geneva"/>
              </a:rPr>
              <a:t>h(x,y) predation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Genev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Geneva"/>
              </a:rPr>
              <a:t>e - prey into predator biomass conversion co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ahoma"/>
              </a:rPr>
              <a:t>Lotka-Volterra Model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281" name="Picture 5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5113440" cy="2390760"/>
          </a:xfrm>
          <a:prstGeom prst="rect">
            <a:avLst/>
          </a:prstGeom>
          <a:ln w="0">
            <a:noFill/>
          </a:ln>
        </p:spPr>
      </p:pic>
      <p:sp>
        <p:nvSpPr>
          <p:cNvPr id="1282" name="Text Box 4"/>
          <p:cNvSpPr/>
          <p:nvPr/>
        </p:nvSpPr>
        <p:spPr>
          <a:xfrm>
            <a:off x="1514160" y="4581360"/>
            <a:ext cx="6564600" cy="1557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5e"/>
                </a:solidFill>
                <a:latin typeface="Calibri"/>
                <a:ea typeface="Geneva"/>
              </a:rPr>
              <a:t> </a:t>
            </a:r>
            <a:r>
              <a:rPr b="0" lang="en-GB" sz="2400" spc="-1" strike="noStrike">
                <a:solidFill>
                  <a:srgbClr val="00005e"/>
                </a:solidFill>
                <a:latin typeface="Calibri"/>
                <a:ea typeface="Geneva"/>
              </a:rPr>
              <a:t>r   - prey growth rate : Malthu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5e"/>
                </a:solidFill>
                <a:latin typeface="Calibri"/>
                <a:ea typeface="Geneva"/>
              </a:rPr>
              <a:t>m  - predator mortality rate : natural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5e"/>
                </a:solidFill>
                <a:latin typeface="Calibri"/>
                <a:ea typeface="Geneva"/>
              </a:rPr>
              <a:t>a and b predation coefficients : b=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5e"/>
                </a:solidFill>
                <a:latin typeface="Calibri"/>
                <a:ea typeface="Geneva"/>
              </a:rPr>
              <a:t>e prey into predator biomass conversion co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Picture 2" descr="figure 18-10 #19010.jpg                                        0000A6A4Discovering 2.0 IRCD           B562F59D:"/>
          <p:cNvPicPr/>
          <p:nvPr/>
        </p:nvPicPr>
        <p:blipFill>
          <a:blip r:embed="rId1"/>
          <a:stretch/>
        </p:blipFill>
        <p:spPr>
          <a:xfrm>
            <a:off x="838080" y="933480"/>
            <a:ext cx="7772400" cy="5924520"/>
          </a:xfrm>
          <a:prstGeom prst="rect">
            <a:avLst/>
          </a:prstGeom>
          <a:ln w="0">
            <a:noFill/>
          </a:ln>
        </p:spPr>
      </p:pic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alibri"/>
                <a:ea typeface="Calibri"/>
              </a:rPr>
              <a:t>Predator-prey population fluctuations in Lotka-Volterra model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redator-prey system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4581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se that populations of rabbits and wolves are described by the Lotka-Volterra equations with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.08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.001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.02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.000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im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measured in month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40 wolfes and 1000 rabb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hase plan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571680" y="1267920"/>
            <a:ext cx="857232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tion of one species in relation to the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9" name="Picture 11" descr="090602"/>
          <p:cNvPicPr/>
          <p:nvPr/>
        </p:nvPicPr>
        <p:blipFill>
          <a:blip r:embed="rId1"/>
          <a:stretch/>
        </p:blipFill>
        <p:spPr>
          <a:xfrm>
            <a:off x="1187280" y="2060640"/>
            <a:ext cx="6193080" cy="45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hase trajectories: solution curv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571680" y="1268280"/>
            <a:ext cx="857232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hase trajectory is a path traced out  by solutions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time goes b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2" name="Picture 10" descr="090602"/>
          <p:cNvPicPr/>
          <p:nvPr/>
        </p:nvPicPr>
        <p:blipFill>
          <a:blip r:embed="rId1"/>
          <a:stretch/>
        </p:blipFill>
        <p:spPr>
          <a:xfrm>
            <a:off x="1547640" y="2565360"/>
            <a:ext cx="5545440" cy="405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Equilibrium poin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39448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point (1000, 80) is inside all the solution curves.  It corresponds to the  equilibrium solution 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R =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1000,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W =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80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5" name="Picture 13" descr="090602"/>
          <p:cNvPicPr/>
          <p:nvPr/>
        </p:nvPicPr>
        <p:blipFill>
          <a:blip r:embed="rId1"/>
          <a:stretch/>
        </p:blipFill>
        <p:spPr>
          <a:xfrm>
            <a:off x="1692360" y="2565360"/>
            <a:ext cx="5400720" cy="394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Hare-lynx dat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297" name="Picture 2" descr=""/>
          <p:cNvPicPr/>
          <p:nvPr/>
        </p:nvPicPr>
        <p:blipFill>
          <a:blip r:embed="rId1"/>
          <a:stretch/>
        </p:blipFill>
        <p:spPr>
          <a:xfrm>
            <a:off x="647640" y="1219320"/>
            <a:ext cx="783612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Hare-lynx dat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299" name="Picture 2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318520" cy="56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Acknowledgments and thank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thanks to the following professors for making slides available on the internet that were reused by 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dessamad Tridane (AS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een Ledder (Univ of Nebrask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ger Day (Illinois State Universi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Picture 2" descr="figure 17-03.jpg                                               0000A6A3Discovering 2.0 IRCD           B562F59D:"/>
          <p:cNvPicPr/>
          <p:nvPr/>
        </p:nvPicPr>
        <p:blipFill>
          <a:blip r:embed="rId1"/>
          <a:stretch/>
        </p:blipFill>
        <p:spPr>
          <a:xfrm>
            <a:off x="584280" y="1484280"/>
            <a:ext cx="8535960" cy="4707000"/>
          </a:xfrm>
          <a:prstGeom prst="rect">
            <a:avLst/>
          </a:prstGeom>
          <a:ln w="0">
            <a:noFill/>
          </a:ln>
        </p:spPr>
      </p:pic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3366"/>
                </a:solidFill>
                <a:latin typeface="Calibri"/>
              </a:rPr>
              <a:t>nature red in tooth and claw</a:t>
            </a:r>
            <a:r>
              <a:rPr b="1" lang="ja-JP" sz="36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1" lang="en-US" sz="36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7" name="Picture 4" descr="http://www-rohan.sdsu.edu/~jmahaffy/courses/f00/math122/lectures/qual_de2/images/mr285.jpg"/>
          <p:cNvPicPr/>
          <p:nvPr/>
        </p:nvPicPr>
        <p:blipFill>
          <a:blip r:embed="rId1"/>
          <a:stretch/>
        </p:blipFill>
        <p:spPr>
          <a:xfrm>
            <a:off x="826920" y="476280"/>
            <a:ext cx="7078680" cy="4719600"/>
          </a:xfrm>
          <a:prstGeom prst="rect">
            <a:avLst/>
          </a:prstGeom>
          <a:ln w="0">
            <a:noFill/>
          </a:ln>
        </p:spPr>
      </p:pic>
      <p:sp>
        <p:nvSpPr>
          <p:cNvPr id="1218" name="TextBox 4"/>
          <p:cNvSpPr/>
          <p:nvPr/>
        </p:nvSpPr>
        <p:spPr>
          <a:xfrm>
            <a:off x="826920" y="5373720"/>
            <a:ext cx="7778880" cy="947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species uses another as a food resource: lynx and har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9" name="Picture 2" descr="figure 18-01b.jpg                                              0000A6A4Discovering 2.0 IRCD           B562F59D:"/>
          <p:cNvPicPr/>
          <p:nvPr/>
        </p:nvPicPr>
        <p:blipFill>
          <a:blip r:embed="rId1"/>
          <a:stretch/>
        </p:blipFill>
        <p:spPr>
          <a:xfrm>
            <a:off x="1219320" y="1219320"/>
            <a:ext cx="6705360" cy="5638680"/>
          </a:xfrm>
          <a:prstGeom prst="rect">
            <a:avLst/>
          </a:prstGeom>
          <a:ln w="0">
            <a:noFill/>
          </a:ln>
        </p:spPr>
      </p:pic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alibri"/>
              </a:rPr>
              <a:t>The Hudson</a:t>
            </a:r>
            <a:r>
              <a:rPr b="1" lang="ja-JP" sz="36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1" lang="en-US" sz="3600" spc="-1" strike="noStrike">
                <a:solidFill>
                  <a:srgbClr val="003366"/>
                </a:solidFill>
                <a:latin typeface="Calibri"/>
              </a:rPr>
              <a:t>s Bay Company </a:t>
            </a:r>
            <a:endParaRPr b="1" lang="en-US" sz="36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1" name="Picture 2" descr="figure 18-02 #1902.jpg                                         0000A6A4Discovering 2.0 IRCD           B562F59D:"/>
          <p:cNvPicPr/>
          <p:nvPr/>
        </p:nvPicPr>
        <p:blipFill>
          <a:blip r:embed="rId1"/>
          <a:stretch/>
        </p:blipFill>
        <p:spPr>
          <a:xfrm>
            <a:off x="971640" y="1449360"/>
            <a:ext cx="7345440" cy="5432400"/>
          </a:xfrm>
          <a:prstGeom prst="rect">
            <a:avLst/>
          </a:prstGeom>
          <a:ln w="0">
            <a:noFill/>
          </a:ln>
        </p:spPr>
      </p:pic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alibri"/>
              </a:rPr>
              <a:t>hare and lynx populations (Canada)</a:t>
            </a:r>
            <a:endParaRPr b="1" lang="en-US" sz="36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23" name="Text Box 4"/>
          <p:cNvSpPr/>
          <p:nvPr/>
        </p:nvSpPr>
        <p:spPr>
          <a:xfrm>
            <a:off x="826920" y="105264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Note regular periodicity, and lag by lynx population peaks just after hare pea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redator-prey system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4868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incipal cause of death among the pre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being eaten by a preda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irth and survival rates of the predators depe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their available food supply—namely, the pre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6" name="Picture 1" descr=""/>
          <p:cNvPicPr/>
          <p:nvPr/>
        </p:nvPicPr>
        <p:blipFill>
          <a:blip r:embed="rId1"/>
          <a:stretch/>
        </p:blipFill>
        <p:spPr>
          <a:xfrm>
            <a:off x="611280" y="3357720"/>
            <a:ext cx="3673440" cy="2754000"/>
          </a:xfrm>
          <a:prstGeom prst="rect">
            <a:avLst/>
          </a:prstGeom>
          <a:ln w="0">
            <a:noFill/>
          </a:ln>
        </p:spPr>
      </p:pic>
      <p:pic>
        <p:nvPicPr>
          <p:cNvPr id="1227" name="Picture 2" descr=""/>
          <p:cNvPicPr/>
          <p:nvPr/>
        </p:nvPicPr>
        <p:blipFill>
          <a:blip r:embed="rId2"/>
          <a:stretch/>
        </p:blipFill>
        <p:spPr>
          <a:xfrm>
            <a:off x="4716360" y="3357720"/>
            <a:ext cx="41292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redator-prey system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8388360" cy="576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e"/>
                </a:solidFill>
                <a:latin typeface="Calibri"/>
              </a:rPr>
              <a:t>Two species encounter each other at a rate that is proportional to both populations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0" name="Picture 1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5646600" cy="39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3"/>
          <p:cNvSpPr/>
          <p:nvPr/>
        </p:nvSpPr>
        <p:spPr>
          <a:xfrm>
            <a:off x="2818800" y="153180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66"/>
                </a:solidFill>
                <a:latin typeface="Calibri"/>
              </a:rPr>
              <a:t>normal prey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2" name="Group 4"/>
          <p:cNvGrpSpPr/>
          <p:nvPr/>
        </p:nvGrpSpPr>
        <p:grpSpPr>
          <a:xfrm>
            <a:off x="564120" y="1892160"/>
            <a:ext cx="3107880" cy="1341720"/>
            <a:chOff x="564120" y="1892160"/>
            <a:chExt cx="3107880" cy="1341720"/>
          </a:xfrm>
        </p:grpSpPr>
        <p:sp>
          <p:nvSpPr>
            <p:cNvPr id="1233" name="AutoShape 5"/>
            <p:cNvSpPr/>
            <p:nvPr/>
          </p:nvSpPr>
          <p:spPr>
            <a:xfrm>
              <a:off x="2300400" y="2090880"/>
              <a:ext cx="1371600" cy="1143000"/>
            </a:xfrm>
            <a:custGeom>
              <a:avLst/>
              <a:gdLst>
                <a:gd name="textAreaLeft" fmla="*/ 789120 w 1371600"/>
                <a:gd name="textAreaRight" fmla="*/ 1157400 w 1371600"/>
                <a:gd name="textAreaTop" fmla="*/ 153720 h 1143000"/>
                <a:gd name="textAreaBottom" fmla="*/ 4888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9900"/>
            </a:solidFill>
            <a:ln w="507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6"/>
            <p:cNvSpPr/>
            <p:nvPr/>
          </p:nvSpPr>
          <p:spPr>
            <a:xfrm>
              <a:off x="564120" y="1892160"/>
              <a:ext cx="187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990099"/>
                  </a:solidFill>
                  <a:latin typeface="Calibri"/>
                </a:rPr>
                <a:t>prey pop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990099"/>
                  </a:solidFill>
                  <a:latin typeface="Calibri"/>
                </a:rPr>
                <a:t>increa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5" name="Group 7"/>
          <p:cNvGrpSpPr/>
          <p:nvPr/>
        </p:nvGrpSpPr>
        <p:grpSpPr>
          <a:xfrm>
            <a:off x="4967280" y="1895400"/>
            <a:ext cx="3537000" cy="2982600"/>
            <a:chOff x="4967280" y="1895400"/>
            <a:chExt cx="3537000" cy="2982600"/>
          </a:xfrm>
        </p:grpSpPr>
        <p:grpSp>
          <p:nvGrpSpPr>
            <p:cNvPr id="1236" name="Group 8"/>
            <p:cNvGrpSpPr/>
            <p:nvPr/>
          </p:nvGrpSpPr>
          <p:grpSpPr>
            <a:xfrm>
              <a:off x="4967280" y="2857680"/>
              <a:ext cx="1371600" cy="1368000"/>
              <a:chOff x="4967280" y="2857680"/>
              <a:chExt cx="1371600" cy="1368000"/>
            </a:xfrm>
          </p:grpSpPr>
          <p:pic>
            <p:nvPicPr>
              <p:cNvPr id="1237" name="Picture 9" descr="hare_OUTLINE"/>
              <p:cNvPicPr/>
              <p:nvPr/>
            </p:nvPicPr>
            <p:blipFill>
              <a:blip r:embed="rId1"/>
              <a:srcRect l="0" t="16798" r="0" b="16798"/>
              <a:stretch/>
            </p:blipFill>
            <p:spPr>
              <a:xfrm>
                <a:off x="4968000" y="2857680"/>
                <a:ext cx="1370880" cy="136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8" name="Picture 10" descr="hare"/>
              <p:cNvPicPr/>
              <p:nvPr/>
            </p:nvPicPr>
            <p:blipFill>
              <a:blip r:embed="rId2"/>
              <a:srcRect l="0" t="16798" r="0" b="16798"/>
              <a:stretch/>
            </p:blipFill>
            <p:spPr>
              <a:xfrm>
                <a:off x="4967280" y="2860560"/>
                <a:ext cx="1370880" cy="1365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39" name="Group 11"/>
            <p:cNvGrpSpPr/>
            <p:nvPr/>
          </p:nvGrpSpPr>
          <p:grpSpPr>
            <a:xfrm>
              <a:off x="6116760" y="2859120"/>
              <a:ext cx="1371600" cy="1368000"/>
              <a:chOff x="6116760" y="2859120"/>
              <a:chExt cx="1371600" cy="1368000"/>
            </a:xfrm>
          </p:grpSpPr>
          <p:pic>
            <p:nvPicPr>
              <p:cNvPr id="1240" name="Picture 12" descr="hare_OUTLINE"/>
              <p:cNvPicPr/>
              <p:nvPr/>
            </p:nvPicPr>
            <p:blipFill>
              <a:blip r:embed="rId3"/>
              <a:srcRect l="0" t="16798" r="0" b="16798"/>
              <a:stretch/>
            </p:blipFill>
            <p:spPr>
              <a:xfrm>
                <a:off x="6117480" y="2859120"/>
                <a:ext cx="1370880" cy="136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1" name="Picture 13" descr="hare"/>
              <p:cNvPicPr/>
              <p:nvPr/>
            </p:nvPicPr>
            <p:blipFill>
              <a:blip r:embed="rId4"/>
              <a:srcRect l="0" t="16798" r="0" b="16798"/>
              <a:stretch/>
            </p:blipFill>
            <p:spPr>
              <a:xfrm>
                <a:off x="6116760" y="2862000"/>
                <a:ext cx="1370880" cy="1365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42" name="Group 14"/>
            <p:cNvGrpSpPr/>
            <p:nvPr/>
          </p:nvGrpSpPr>
          <p:grpSpPr>
            <a:xfrm>
              <a:off x="4969080" y="3510000"/>
              <a:ext cx="1371600" cy="1368000"/>
              <a:chOff x="4969080" y="3510000"/>
              <a:chExt cx="1371600" cy="1368000"/>
            </a:xfrm>
          </p:grpSpPr>
          <p:pic>
            <p:nvPicPr>
              <p:cNvPr id="1243" name="Picture 15" descr="hare_OUTLINE"/>
              <p:cNvPicPr/>
              <p:nvPr/>
            </p:nvPicPr>
            <p:blipFill>
              <a:blip r:embed="rId5"/>
              <a:srcRect l="0" t="16798" r="0" b="16798"/>
              <a:stretch/>
            </p:blipFill>
            <p:spPr>
              <a:xfrm>
                <a:off x="4969800" y="3510000"/>
                <a:ext cx="1370880" cy="136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4" name="Picture 16" descr="hare"/>
              <p:cNvPicPr/>
              <p:nvPr/>
            </p:nvPicPr>
            <p:blipFill>
              <a:blip r:embed="rId6"/>
              <a:srcRect l="0" t="16798" r="0" b="16798"/>
              <a:stretch/>
            </p:blipFill>
            <p:spPr>
              <a:xfrm>
                <a:off x="4969080" y="3512880"/>
                <a:ext cx="1370880" cy="1365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45" name="Group 17"/>
            <p:cNvGrpSpPr/>
            <p:nvPr/>
          </p:nvGrpSpPr>
          <p:grpSpPr>
            <a:xfrm>
              <a:off x="6116760" y="3505320"/>
              <a:ext cx="1371600" cy="1368000"/>
              <a:chOff x="6116760" y="3505320"/>
              <a:chExt cx="1371600" cy="1368000"/>
            </a:xfrm>
          </p:grpSpPr>
          <p:pic>
            <p:nvPicPr>
              <p:cNvPr id="1246" name="Picture 18" descr="hare_OUTLINE"/>
              <p:cNvPicPr/>
              <p:nvPr/>
            </p:nvPicPr>
            <p:blipFill>
              <a:blip r:embed="rId7"/>
              <a:srcRect l="0" t="16798" r="0" b="16798"/>
              <a:stretch/>
            </p:blipFill>
            <p:spPr>
              <a:xfrm>
                <a:off x="6117480" y="3505320"/>
                <a:ext cx="1370880" cy="136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7" name="Picture 19" descr="hare"/>
              <p:cNvPicPr/>
              <p:nvPr/>
            </p:nvPicPr>
            <p:blipFill>
              <a:blip r:embed="rId8"/>
              <a:srcRect l="0" t="16798" r="0" b="16798"/>
              <a:stretch/>
            </p:blipFill>
            <p:spPr>
              <a:xfrm>
                <a:off x="6116760" y="3508200"/>
                <a:ext cx="1370880" cy="1365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48" name="AutoShape 20"/>
            <p:cNvSpPr/>
            <p:nvPr/>
          </p:nvSpPr>
          <p:spPr>
            <a:xfrm rot="5400000">
              <a:off x="5400360" y="2217600"/>
              <a:ext cx="1143000" cy="1143000"/>
            </a:xfrm>
            <a:custGeom>
              <a:avLst/>
              <a:gdLst>
                <a:gd name="textAreaLeft" fmla="*/ 657360 w 1143000"/>
                <a:gd name="textAreaRight" fmla="*/ 965160 w 1143000"/>
                <a:gd name="textAreaTop" fmla="*/ 153720 h 1143000"/>
                <a:gd name="textAreaBottom" fmla="*/ 4888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9900"/>
            </a:solidFill>
            <a:ln w="507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Rectangle 21"/>
            <p:cNvSpPr/>
            <p:nvPr/>
          </p:nvSpPr>
          <p:spPr>
            <a:xfrm>
              <a:off x="6572520" y="1895400"/>
              <a:ext cx="193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990099"/>
                  </a:solidFill>
                  <a:latin typeface="Calibri"/>
                </a:rPr>
                <a:t>prey popul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990099"/>
                  </a:solidFill>
                  <a:latin typeface="Calibri"/>
                </a:rPr>
                <a:t>increa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0" name="Group 22"/>
          <p:cNvGrpSpPr/>
          <p:nvPr/>
        </p:nvGrpSpPr>
        <p:grpSpPr>
          <a:xfrm>
            <a:off x="6408720" y="2733840"/>
            <a:ext cx="2895480" cy="2866320"/>
            <a:chOff x="6408720" y="2733840"/>
            <a:chExt cx="2895480" cy="2866320"/>
          </a:xfrm>
        </p:grpSpPr>
        <p:sp>
          <p:nvSpPr>
            <p:cNvPr id="1251" name="Rectangle 23"/>
            <p:cNvSpPr/>
            <p:nvPr/>
          </p:nvSpPr>
          <p:spPr>
            <a:xfrm>
              <a:off x="6408720" y="4683240"/>
              <a:ext cx="2895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6600"/>
                  </a:solidFill>
                  <a:latin typeface="Calibri"/>
                </a:rPr>
                <a:t>predator population increas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6600"/>
                  </a:solidFill>
                  <a:latin typeface="Calibri"/>
                </a:rPr>
                <a:t>as more foo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2" name="Group 24"/>
            <p:cNvGrpSpPr/>
            <p:nvPr/>
          </p:nvGrpSpPr>
          <p:grpSpPr>
            <a:xfrm>
              <a:off x="6911640" y="2733840"/>
              <a:ext cx="1539360" cy="1982520"/>
              <a:chOff x="6911640" y="2733840"/>
              <a:chExt cx="1539360" cy="1982520"/>
            </a:xfrm>
          </p:grpSpPr>
          <p:pic>
            <p:nvPicPr>
              <p:cNvPr id="1253" name="Picture 25" descr="hare_OUTLINE"/>
              <p:cNvPicPr/>
              <p:nvPr/>
            </p:nvPicPr>
            <p:blipFill>
              <a:blip r:embed="rId9"/>
              <a:srcRect l="12598" t="16798" r="12598" b="16798"/>
              <a:stretch/>
            </p:blipFill>
            <p:spPr>
              <a:xfrm flipH="1">
                <a:off x="6911640" y="2733840"/>
                <a:ext cx="1435320" cy="19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4" name="Picture 26" descr="cat"/>
              <p:cNvPicPr/>
              <p:nvPr/>
            </p:nvPicPr>
            <p:blipFill>
              <a:blip r:embed="rId10"/>
              <a:srcRect l="12598" t="16798" r="12598" b="16798"/>
              <a:stretch/>
            </p:blipFill>
            <p:spPr>
              <a:xfrm flipH="1">
                <a:off x="7014960" y="2802960"/>
                <a:ext cx="1436040" cy="1913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55" name="Group 27"/>
            <p:cNvGrpSpPr/>
            <p:nvPr/>
          </p:nvGrpSpPr>
          <p:grpSpPr>
            <a:xfrm>
              <a:off x="7748640" y="2746440"/>
              <a:ext cx="1539000" cy="1982880"/>
              <a:chOff x="7748640" y="2746440"/>
              <a:chExt cx="1539000" cy="1982880"/>
            </a:xfrm>
          </p:grpSpPr>
          <p:pic>
            <p:nvPicPr>
              <p:cNvPr id="1256" name="Picture 28" descr="hare_OUTLINE"/>
              <p:cNvPicPr/>
              <p:nvPr/>
            </p:nvPicPr>
            <p:blipFill>
              <a:blip r:embed="rId11"/>
              <a:srcRect l="12598" t="16798" r="12598" b="16798"/>
              <a:stretch/>
            </p:blipFill>
            <p:spPr>
              <a:xfrm flipH="1">
                <a:off x="7748640" y="2746440"/>
                <a:ext cx="1434960" cy="191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7" name="Picture 29" descr="cat"/>
              <p:cNvPicPr/>
              <p:nvPr/>
            </p:nvPicPr>
            <p:blipFill>
              <a:blip r:embed="rId12"/>
              <a:srcRect l="12598" t="16798" r="12598" b="16798"/>
              <a:stretch/>
            </p:blipFill>
            <p:spPr>
              <a:xfrm flipH="1">
                <a:off x="7851960" y="2815560"/>
                <a:ext cx="1435680" cy="1913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58" name="Group 30"/>
          <p:cNvGrpSpPr/>
          <p:nvPr/>
        </p:nvGrpSpPr>
        <p:grpSpPr>
          <a:xfrm>
            <a:off x="539640" y="2730600"/>
            <a:ext cx="2845080" cy="3118320"/>
            <a:chOff x="539640" y="2730600"/>
            <a:chExt cx="2845080" cy="3118320"/>
          </a:xfrm>
        </p:grpSpPr>
        <p:sp>
          <p:nvSpPr>
            <p:cNvPr id="1259" name="AutoShape 31"/>
            <p:cNvSpPr/>
            <p:nvPr/>
          </p:nvSpPr>
          <p:spPr>
            <a:xfrm rot="16200000">
              <a:off x="2127240" y="4559040"/>
              <a:ext cx="1371600" cy="1143000"/>
            </a:xfrm>
            <a:custGeom>
              <a:avLst/>
              <a:gdLst>
                <a:gd name="textAreaLeft" fmla="*/ 789120 w 1371600"/>
                <a:gd name="textAreaRight" fmla="*/ 1157400 w 1371600"/>
                <a:gd name="textAreaTop" fmla="*/ 153720 h 1143000"/>
                <a:gd name="textAreaBottom" fmla="*/ 4888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9900"/>
            </a:solidFill>
            <a:ln w="507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Rectangle 32"/>
            <p:cNvSpPr/>
            <p:nvPr/>
          </p:nvSpPr>
          <p:spPr>
            <a:xfrm>
              <a:off x="539640" y="4657680"/>
              <a:ext cx="205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6600"/>
                  </a:solidFill>
                  <a:latin typeface="Calibri"/>
                </a:rPr>
                <a:t>predator population decrea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6600"/>
                  </a:solidFill>
                  <a:latin typeface="Calibri"/>
                </a:rPr>
                <a:t>as less foo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1" name="Group 33"/>
            <p:cNvGrpSpPr/>
            <p:nvPr/>
          </p:nvGrpSpPr>
          <p:grpSpPr>
            <a:xfrm>
              <a:off x="1079640" y="2730600"/>
              <a:ext cx="1539360" cy="1982520"/>
              <a:chOff x="1079640" y="2730600"/>
              <a:chExt cx="1539360" cy="1982520"/>
            </a:xfrm>
          </p:grpSpPr>
          <p:pic>
            <p:nvPicPr>
              <p:cNvPr id="1262" name="Picture 34" descr="hare_OUTLINE"/>
              <p:cNvPicPr/>
              <p:nvPr/>
            </p:nvPicPr>
            <p:blipFill>
              <a:blip r:embed="rId13"/>
              <a:srcRect l="12598" t="16798" r="12598" b="16798"/>
              <a:stretch/>
            </p:blipFill>
            <p:spPr>
              <a:xfrm flipH="1">
                <a:off x="1079640" y="2730600"/>
                <a:ext cx="1435320" cy="19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3" name="Picture 35" descr="cat"/>
              <p:cNvPicPr/>
              <p:nvPr/>
            </p:nvPicPr>
            <p:blipFill>
              <a:blip r:embed="rId14"/>
              <a:srcRect l="12598" t="16798" r="12598" b="16798"/>
              <a:stretch/>
            </p:blipFill>
            <p:spPr>
              <a:xfrm flipH="1">
                <a:off x="1182960" y="2799720"/>
                <a:ext cx="1436040" cy="1913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64" name="Group 37"/>
          <p:cNvGrpSpPr/>
          <p:nvPr/>
        </p:nvGrpSpPr>
        <p:grpSpPr>
          <a:xfrm>
            <a:off x="3740040" y="1506600"/>
            <a:ext cx="1371600" cy="1368000"/>
            <a:chOff x="3740040" y="1506600"/>
            <a:chExt cx="1371600" cy="1368000"/>
          </a:xfrm>
        </p:grpSpPr>
        <p:pic>
          <p:nvPicPr>
            <p:cNvPr id="1265" name="Picture 38" descr="hare_OUTLINE"/>
            <p:cNvPicPr/>
            <p:nvPr/>
          </p:nvPicPr>
          <p:blipFill>
            <a:blip r:embed="rId15"/>
            <a:srcRect l="0" t="16798" r="0" b="16798"/>
            <a:stretch/>
          </p:blipFill>
          <p:spPr>
            <a:xfrm>
              <a:off x="3740760" y="1506600"/>
              <a:ext cx="1370880" cy="13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6" name="Picture 39" descr="hare"/>
            <p:cNvPicPr/>
            <p:nvPr/>
          </p:nvPicPr>
          <p:blipFill>
            <a:blip r:embed="rId16"/>
            <a:srcRect l="0" t="16798" r="0" b="16798"/>
            <a:stretch/>
          </p:blipFill>
          <p:spPr>
            <a:xfrm>
              <a:off x="3740040" y="1509480"/>
              <a:ext cx="1370880" cy="136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7" name="Group 40"/>
          <p:cNvGrpSpPr/>
          <p:nvPr/>
        </p:nvGrpSpPr>
        <p:grpSpPr>
          <a:xfrm>
            <a:off x="3672000" y="2155680"/>
            <a:ext cx="1371600" cy="1368360"/>
            <a:chOff x="3672000" y="2155680"/>
            <a:chExt cx="1371600" cy="1368360"/>
          </a:xfrm>
        </p:grpSpPr>
        <p:pic>
          <p:nvPicPr>
            <p:cNvPr id="1268" name="Picture 41" descr="hare_OUTLINE"/>
            <p:cNvPicPr/>
            <p:nvPr/>
          </p:nvPicPr>
          <p:blipFill>
            <a:blip r:embed="rId17"/>
            <a:srcRect l="0" t="16798" r="0" b="16798"/>
            <a:stretch/>
          </p:blipFill>
          <p:spPr>
            <a:xfrm>
              <a:off x="3672720" y="2155680"/>
              <a:ext cx="1370880" cy="136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9" name="Picture 42" descr="hare"/>
            <p:cNvPicPr/>
            <p:nvPr/>
          </p:nvPicPr>
          <p:blipFill>
            <a:blip r:embed="rId18"/>
            <a:srcRect l="0" t="16798" r="0" b="16798"/>
            <a:stretch/>
          </p:blipFill>
          <p:spPr>
            <a:xfrm>
              <a:off x="3672000" y="2158560"/>
              <a:ext cx="1370880" cy="136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0" name="Group 43"/>
          <p:cNvGrpSpPr/>
          <p:nvPr/>
        </p:nvGrpSpPr>
        <p:grpSpPr>
          <a:xfrm>
            <a:off x="2539080" y="4682880"/>
            <a:ext cx="3999960" cy="1846440"/>
            <a:chOff x="2539080" y="4682880"/>
            <a:chExt cx="3999960" cy="1846440"/>
          </a:xfrm>
        </p:grpSpPr>
        <p:sp>
          <p:nvSpPr>
            <p:cNvPr id="1271" name="AutoShape 44"/>
            <p:cNvSpPr/>
            <p:nvPr/>
          </p:nvSpPr>
          <p:spPr>
            <a:xfrm rot="10800000">
              <a:off x="5167440" y="4682880"/>
              <a:ext cx="1371600" cy="1143000"/>
            </a:xfrm>
            <a:custGeom>
              <a:avLst/>
              <a:gdLst>
                <a:gd name="textAreaLeft" fmla="*/ 789120 w 1371600"/>
                <a:gd name="textAreaRight" fmla="*/ 1157400 w 1371600"/>
                <a:gd name="textAreaTop" fmla="*/ 153720 h 1143000"/>
                <a:gd name="textAreaBottom" fmla="*/ 4888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9900"/>
            </a:solidFill>
            <a:ln w="507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45"/>
            <p:cNvSpPr/>
            <p:nvPr/>
          </p:nvSpPr>
          <p:spPr>
            <a:xfrm>
              <a:off x="2539080" y="5856120"/>
              <a:ext cx="30337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990099"/>
                  </a:solidFill>
                  <a:latin typeface="Calibri"/>
                </a:rPr>
                <a:t>prey population decrea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990099"/>
                  </a:solidFill>
                  <a:latin typeface="Calibri"/>
                </a:rPr>
                <a:t>because of more preda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3" name="Group 46"/>
            <p:cNvGrpSpPr/>
            <p:nvPr/>
          </p:nvGrpSpPr>
          <p:grpSpPr>
            <a:xfrm>
              <a:off x="3743280" y="4746600"/>
              <a:ext cx="1371600" cy="1368000"/>
              <a:chOff x="3743280" y="4746600"/>
              <a:chExt cx="1371600" cy="1368000"/>
            </a:xfrm>
          </p:grpSpPr>
          <p:pic>
            <p:nvPicPr>
              <p:cNvPr id="1274" name="Picture 47" descr="hare_OUTLINE"/>
              <p:cNvPicPr/>
              <p:nvPr/>
            </p:nvPicPr>
            <p:blipFill>
              <a:blip r:embed="rId19"/>
              <a:srcRect l="0" t="16798" r="0" b="16798"/>
              <a:stretch/>
            </p:blipFill>
            <p:spPr>
              <a:xfrm>
                <a:off x="3744000" y="4746600"/>
                <a:ext cx="1370880" cy="136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5" name="Picture 48" descr="hare"/>
              <p:cNvPicPr/>
              <p:nvPr/>
            </p:nvPicPr>
            <p:blipFill>
              <a:blip r:embed="rId20"/>
              <a:srcRect l="0" t="16798" r="0" b="16798"/>
              <a:stretch/>
            </p:blipFill>
            <p:spPr>
              <a:xfrm>
                <a:off x="3743280" y="4749480"/>
                <a:ext cx="1370880" cy="1365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Predator-prey cycle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8:59:46Z</dcterms:created>
  <dc:creator>Gilberto Camara</dc:creator>
  <dc:description/>
  <cp:keywords/>
  <dc:language>en-US</dc:language>
  <cp:lastModifiedBy>tiago</cp:lastModifiedBy>
  <cp:lastPrinted>2012-10-26T17:22:49Z</cp:lastPrinted>
  <dcterms:modified xsi:type="dcterms:W3CDTF">2014-07-31T19:22:16Z</dcterms:modified>
  <cp:revision>470</cp:revision>
  <dc:subject/>
  <dc:title>Low-carbon growth in Brazil?</dc:title>
</cp:coreProperties>
</file>